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C700-1D91-4D90-82D7-0554633A34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2F4A-1659-4E60-82F4-8C0F7936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5B3-11AB-4116-8F70-2C51F0AB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2648-74C7-4A6E-88BE-AF14A230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FB83-C533-434A-82AF-27DA0425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CFE0-9658-4DDB-9FF3-BE62940B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6C8E-5F4D-4923-A9F1-2691E043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ECA-1DB0-4D6A-8BCB-77FD8B9D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21F-FDD6-4F95-A3DE-C1966735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B035-9025-4533-8B13-1BA1F70B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723-E386-433A-A63F-DFB151FC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4C2A-C2E3-4275-9391-750992BA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062-8016-49CB-BB1C-9BECA86F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1A8F-9C86-47ED-80B6-F884DB0F655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 in WW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My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1" name="Picture 4" descr="Worcester regiment off to war"/>
          <p:cNvPicPr/>
          <p:nvPr/>
        </p:nvPicPr>
        <p:blipFill>
          <a:blip r:embed="rId1"/>
          <a:stretch/>
        </p:blipFill>
        <p:spPr>
          <a:xfrm>
            <a:off x="324000" y="1341360"/>
            <a:ext cx="8351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Realit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3" name="Picture 4" descr="Trenches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he Trench Syste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Trench system"/>
          <p:cNvPicPr/>
          <p:nvPr/>
        </p:nvPicPr>
        <p:blipFill>
          <a:blip r:embed="rId1"/>
          <a:stretch/>
        </p:blipFill>
        <p:spPr>
          <a:xfrm>
            <a:off x="4716360" y="1268280"/>
            <a:ext cx="40006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renches"/>
          <p:cNvPicPr/>
          <p:nvPr/>
        </p:nvPicPr>
        <p:blipFill>
          <a:blip r:embed="rId2"/>
          <a:stretch/>
        </p:blipFill>
        <p:spPr>
          <a:xfrm>
            <a:off x="4716360" y="3860640"/>
            <a:ext cx="40719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Going over the top"/>
          <p:cNvPicPr/>
          <p:nvPr/>
        </p:nvPicPr>
        <p:blipFill>
          <a:blip r:embed="rId1"/>
          <a:stretch/>
        </p:blipFill>
        <p:spPr>
          <a:xfrm>
            <a:off x="4716360" y="1557360"/>
            <a:ext cx="410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Suggested Task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1:06:16Z</dcterms:created>
  <dc:creator>Carol</dc:creator>
  <dc:description>Trench Warfare in WWI</dc:description>
  <cp:keywords>Trench Warfare in WWI</cp:keywords>
  <dc:language>en-US</dc:language>
  <cp:lastModifiedBy>LEGION</cp:lastModifiedBy>
  <dcterms:modified xsi:type="dcterms:W3CDTF">2017-07-03T09:58:03Z</dcterms:modified>
  <cp:revision>8</cp:revision>
  <dc:subject>Trench Warfare in WWI</dc:subject>
  <dc:title>Trench Warfare in WWI</dc:title>
</cp:coreProperties>
</file>